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CCF-B180-4CA7-90E4-D6AE4611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861-5096-4689-9A03-49C4A726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41B-42A3-426E-A63B-61F28B71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308-E313-435D-8C4E-2EDC2AFE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8254-7DB2-4277-9EFC-55A26AEE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171-D192-49E3-8D82-16CFC8EC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437E-7814-409C-AFC9-10CBD2AA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B303-549E-4B2B-B722-C270ED0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9EC2-1B19-4818-8ABC-D96956CC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8E8-432F-435D-857E-D3E49E58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6DB2-42CE-41BD-892C-CCA80223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647-CD2F-4DA3-B658-3241309B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7818-8939-479E-83F0-1B2F490B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0A4F-9D3F-4341-9EAD-0A0DE9B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933F-DF86-47AE-9370-E1A2D700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E1F5-6C2E-4A8E-9147-ACBDB299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DD29-31ED-4790-A5A0-6466E327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42C-45DD-43BB-B295-774B3FEE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166-5BF8-4F12-9A30-C2B3AF60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163-9434-4530-9853-11E30E29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848-E637-4FED-9834-4CA08AC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64B-F26A-41BE-A779-263A8DE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9C7-3E3E-4A04-A899-4189147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EE2-9BC3-4910-8747-C1DFF6B1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A7BE-1088-43D4-A57E-6352D0785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1FCF-21B8-4A53-BA97-04779F210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Globalization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Expanding Globaliz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THAT PEOPLE OPPOS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2666880" y="-152640"/>
            <a:ext cx="80769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Oppos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1295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many that oppose the trade liberalization that fosters globalization, targeting the WT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ir point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too much pow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It can force countries to change their regulations to make them fit into WTO ru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is not democratically accountab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arings on trade disputes are closed to the public and the me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 does not care enough about the problems of developing countries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not forced rich countries to fully open their markets to products from developing countri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not done enough about the environment, child labor, worker’s rights, or health car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PEOPLE SUPPORT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upport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eople that supported the WTO said that the WTO had managed to raise – and would continue to raise- living standards around the world, providing numerous opportunities for ultimately everyon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IS ONE OF THE BIGGEST FREE TRADE AGREEMENTS THAT CANADA IS PART OF RIGHT NOW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st recent member is Mexic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orth American Free Trade Agreem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ent into effect 1998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panded to include Mexico in 19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liminated all trade barriers between these three cou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opinions arose because this was the first free trade agreement between countries with such different levels of development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S DO YOU SUPPOSE SUPPORTED NAFT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 WERE LIKELEY TO OPPOSE I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hanges in Economics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Mexico increased fourfold (1993-2005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U.S rose $359 billion in 200 from $183 billion in 1994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the U.S tripled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Mexico rose 200 percent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Since NAFTA came into effect, the Canadian Economy has grown an average of 3.4 a year and 2.5 million new jobs have been created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6800" y="13568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Poll on Public Opinion on weather they had Won or Lost as a result of NAFTA 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572000" y="2000160"/>
            <a:ext cx="1571760" cy="357120"/>
          </a:xfrm>
          <a:prstGeom prst="rect">
            <a:avLst/>
          </a:prstGeom>
          <a:solidFill>
            <a:srgbClr val="dedee5"/>
          </a:solidFill>
          <a:ln w="25560">
            <a:solidFill>
              <a:srgbClr val="eeef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2033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re were definitely positives and negatives for each country involved in 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1720" y="2000160"/>
          <a:ext cx="7500960" cy="465156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Suppor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Op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porter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ponent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thousands of high paying 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ause thousands of jobs to leave Canada and the U.S. for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raise living standards in Canada, Mexico, and the U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a “race to the bottom” for wages in all three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improve environmental and employment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health, environmental, and safety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transform Mexico from a developing country to developed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the ability of member states to make their own deci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IS MEANT BY EXPANDING GLOBALIZ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CAN BE A FACTOR TO EXPANDING GLOBALIZ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y believed that Mexico was the most negatively affected country from NAFTA. Why do you think that i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was Canada negatively affected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European Un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reated a liberalized trading area in Europ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me into effect in 1991 after more than 40 years of negotiation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EU enables members to take advantage of the opportunities created by economic globalization while protecting them from certain aspects of globalization (pressure to reduce spending on social programs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Also serves as a parliamen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ICH OF THE TWO TRADE AGREEMENTS DO YOU THINK HAS A GREATER GDP? POPUL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6800" y="14997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The European Union and NAFTA (2006)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57240" y="3000240"/>
          <a:ext cx="6858000" cy="22258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Categ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European 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324 782 sp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 5888 638 sq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6 64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8 993 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2.82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5.279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per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29 400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34 8-5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rebuchet MS"/>
              </a:rPr>
              <a:t>How Do International Agreements And Organizations Contribute To Expanding Globalization?</a:t>
            </a:r>
            <a:endParaRPr b="0" i="1" lang="en-US" sz="3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A factor of expanding globalization is reducing trade barriers so that goods and services can move around the world easily. This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Trade Liberaliz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In order for liberalization to take place these things must be remove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ariff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Quot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gulation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When two countries agree to eliminate all tariffs and taxes on goods and services traded between them, the result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Free Trad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Creates jobs, uses resources, and reduces the cost of consumer good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me the widely known, and one of the earliest developed Free Trade agreemen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vi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World Trade Organizat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 was established in 1995 to increase international trade by lowering trade barri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cisions are made by coming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sensu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 a general agreement - which all the members suppo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s that the terms of trade agreements are follow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ttles trade disputes between govern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ducts trade negotiat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3611520"/>
            <a:ext cx="7238880" cy="324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2438280" y="0"/>
            <a:ext cx="46483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THINK THE WTO USED TO ENFORCE DECISION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economic ac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anct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has the power to enfor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anction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- economic actions such as trade boycott - to enforce  deci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used this power to resolve disputes in trade between nation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Example of Dispute in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2 Canada asked the WTO to rule on a longstanding dispute with the US over softwood lumber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6 WTO finally ruled in Canada’s favor, removing American tariffs on Canadian lumber and required the U.S to repay almost 80% of the more than 5 billion it had collected in tariffs on lumber imports from Cana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9:20:03Z</dcterms:created>
  <dc:creator>Webber Academy Webber Academy</dc:creator>
  <dc:description/>
  <cp:keywords/>
  <dc:language>en-US</dc:language>
  <cp:lastModifiedBy>HP Authorized Customer</cp:lastModifiedBy>
  <cp:lastPrinted>1904-01-01T00:00:00Z</cp:lastPrinted>
  <dcterms:modified xsi:type="dcterms:W3CDTF">2007-09-20T03:49:45Z</dcterms:modified>
  <cp:revision>24</cp:revision>
  <dc:subject/>
  <dc:title>Globalization</dc:title>
</cp:coreProperties>
</file>