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F9C7-FB08-44F2-BC5A-74F5DA15C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5120" y="413064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BEA6-3496-4009-B263-2814B67A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1944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E221-180E-4627-A384-FE1433697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2388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4228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512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2388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4228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983B-1A7F-4EAE-9483-6350D2FBB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58814-66C6-479A-ACA2-76DB7A4F0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971B-A293-4D84-B430-FD529CD3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FF60D-7742-4FB9-AF35-CAF8FEBB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0896-8218-417C-8118-2BC3920F6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EC7D-5A7C-48A8-84B1-4D6A6A82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EE3A-F782-49FC-9F62-D4EE87A7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5338D-C620-435C-B05A-DEB60B3B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9322-0ACE-4810-97A5-68B92C7D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1944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0DFA-F83A-4886-912C-D276EAAD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C6C3C-DADB-468E-8A27-6696275F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5120" y="413064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4C39-82BE-4FA3-8768-AB3D3467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1944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39583-2507-4159-8D33-EADDC71F9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2388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4228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512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2388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4228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C784-8F2A-4A71-A851-BECDA9EAA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28A4-3099-42FD-AA18-0666B7EC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8AFD-3029-45AD-B4A0-5B911604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335C-EAE4-4545-B72B-66DC33A8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F7FC-8FA2-4C09-908A-6793B19A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5C2A-59AA-4F57-93AE-7FA06A78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1944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7829-A62F-4CE2-ABDC-3BFF3689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C8C5-0D11-4F69-AF72-F9C971EB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2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9355-0362-44B3-9F4E-5F71A4C03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2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20D7-0AF4-4737-BB0F-3E2E69F781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rebuchet MS"/>
              </a:rPr>
              <a:t>Globalization</a:t>
            </a:r>
            <a:endParaRPr b="0" i="1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5105160"/>
            <a:ext cx="6400800" cy="10666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rebuchet MS"/>
              </a:rPr>
              <a:t>Expanding Globaliza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AT DO YOU BELIEVE ARE REASONS THAT PEOPLE OPPOSED THE WTO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2666880" y="-152640"/>
            <a:ext cx="807696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Opposing the WTO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133720" y="12952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re are many that oppose the trade liberalization that fosters globalization, targeting the WTO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ir point: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rebuchet MS"/>
              </a:rPr>
              <a:t>The WTO has too much power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. It can force countries to change their regulations to make them fit into WTO rul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rebuchet MS"/>
              </a:rPr>
              <a:t>The WTO is not democratically accountable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arings on trade disputes are closed to the public and the medi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rebuchet MS"/>
              </a:rPr>
              <a:t>The WTO  does not care enough about the problems of developing countries.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t has not forced rich countries to fully open their markets to products from developing countries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rebuchet MS"/>
              </a:rPr>
              <a:t>The WTO has not done enough about the environment, child labor, worker’s rights, or health care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AT DO YOU BELIEVE ARE REASONS PEOPLE SUPPORTED THE WTO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Supporting the WTO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eople that supported the WTO said that the WTO had managed to raise – and would continue to raise- living standards around the world, providing numerous opportunities for ultimately everyone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AT IS ONE OF THE BIGGEST FREE TRADE AGREEMENTS THAT CANADA IS PART OF RIGHT NOW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*hint: Most recent member is Mexico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North American Free Trade Agreement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Went into effect 1998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Expanded to include Mexico in 1994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Eliminated all trade barriers between these three countrie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Different opinions arose because this was the first free trade agreement between countries with such different levels of development  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AT GROUPS DO YOU SUPPOSE SUPPORTED NAFTA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AT GROUP WERE LIKELEY TO OPPOSE IT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Changes in Economics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NAFTA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rebuchet MS"/>
              </a:rPr>
              <a:t>Canadian exports to Mexico increased fourfold (1993-2005)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rebuchet MS"/>
              </a:rPr>
              <a:t>Canadian exports to U.S rose $359 billion in 200 from $183 billion in 1994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rebuchet MS"/>
              </a:rPr>
              <a:t>Canadian investment in the U.S tripled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rebuchet MS"/>
              </a:rPr>
              <a:t>Canadian investment in Mexico rose 200 percent 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rebuchet MS"/>
              </a:rPr>
              <a:t>Since NAFTA came into effect, the Canadian Economy has grown an average of 3.4 a year and 2.5 million new jobs have been created.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56800" y="135684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rebuchet MS"/>
              </a:rPr>
              <a:t>Poll on Public Opinion on weather they had Won or Lost as a result of NAFTA </a:t>
            </a:r>
            <a:endParaRPr b="0" i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9" name="Content Placeholder 3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6858000" cy="41148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4"/>
          <p:cNvSpPr/>
          <p:nvPr/>
        </p:nvSpPr>
        <p:spPr>
          <a:xfrm>
            <a:off x="4572000" y="2000160"/>
            <a:ext cx="1571760" cy="357120"/>
          </a:xfrm>
          <a:prstGeom prst="rect">
            <a:avLst/>
          </a:prstGeom>
          <a:solidFill>
            <a:srgbClr val="dedee5"/>
          </a:solidFill>
          <a:ln w="25560">
            <a:solidFill>
              <a:srgbClr val="eeeff2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72680" cy="20336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There were definitely positives and negatives for each country involved in NAFTA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71720" y="2000160"/>
          <a:ext cx="7500960" cy="4651560"/>
        </p:xfrm>
        <a:graphic>
          <a:graphicData uri="http://schemas.openxmlformats.org/drawingml/2006/table">
            <a:tbl>
              <a:tblPr/>
              <a:tblGrid>
                <a:gridCol w="3751200"/>
                <a:gridCol w="3749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a3377"/>
                          </a:solidFill>
                          <a:latin typeface="Trebuchet MS"/>
                        </a:rPr>
                        <a:t>NAFTA Suppor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18720">
                      <a:solidFill>
                        <a:srgbClr val="2a3377"/>
                      </a:solidFill>
                    </a:lnB>
                    <a:solidFill>
                      <a:srgbClr val="acad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a3377"/>
                          </a:solidFill>
                          <a:latin typeface="Trebuchet MS"/>
                        </a:rPr>
                        <a:t>NAFTA Oppon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18720">
                      <a:solidFill>
                        <a:srgbClr val="2a3377"/>
                      </a:solidFill>
                    </a:lnB>
                    <a:solidFill>
                      <a:srgbClr val="acad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upporters believed that NAF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1872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Opponents believed that NAF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1872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ould create thousands of high paying jo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f1f1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ould cause thousands of jobs to leave Canada and the U.S. for Mex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f1f1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ould raise living standards in Canada, Mexico, and the U.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ould create a “race to the bottom” for wages in all three count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ould improve environmental and employment stand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f1f1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ould undermine health, environmental, and safety stand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f1f1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ould transform Mexico from a developing country to developed 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ould undermine the ability of member states to make their own decisio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AT DO YOU BELIEVE IS MEANT BY EXPANDING GLOBALIZATION?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AT CAN BE A FACTOR TO EXPANDING GLOBALIZATION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any believed that Mexico was the most negatively affected country from NAFTA. Why do you think that is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How was Canada negatively affected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The European Union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rebuchet MS"/>
              </a:rPr>
              <a:t>Created a liberalized trading area in Europe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rebuchet MS"/>
              </a:rPr>
              <a:t>Came into effect in 1991 after more than 40 years of negotiation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rebuchet MS"/>
              </a:rPr>
              <a:t>EU enables members to take advantage of the opportunities created by economic globalization while protecting them from certain aspects of globalization (pressure to reduce spending on social programs)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rebuchet MS"/>
              </a:rPr>
              <a:t>Also serves as a parliament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ICH OF THE TWO TRADE AGREEMENTS DO YOU THINK HAS A GREATER GDP? POPULATION?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56800" y="149976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rebuchet MS"/>
              </a:rPr>
              <a:t>The European Union and NAFTA (2006)</a:t>
            </a:r>
            <a:endParaRPr b="0" i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857240" y="3000240"/>
          <a:ext cx="6858000" cy="222588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a3377"/>
                          </a:solidFill>
                          <a:latin typeface="Trebuchet MS"/>
                        </a:rPr>
                        <a:t>Categor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18720">
                      <a:solidFill>
                        <a:srgbClr val="2a3377"/>
                      </a:solidFill>
                    </a:lnB>
                    <a:solidFill>
                      <a:srgbClr val="acad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a3377"/>
                          </a:solidFill>
                          <a:latin typeface="Trebuchet MS"/>
                        </a:rPr>
                        <a:t>European U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18720">
                      <a:solidFill>
                        <a:srgbClr val="2a3377"/>
                      </a:solidFill>
                    </a:lnB>
                    <a:solidFill>
                      <a:srgbClr val="acad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a3377"/>
                          </a:solidFill>
                          <a:latin typeface="Trebuchet MS"/>
                        </a:rPr>
                        <a:t>NAF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18720">
                      <a:solidFill>
                        <a:srgbClr val="2a3377"/>
                      </a:solidFill>
                    </a:lnB>
                    <a:solidFill>
                      <a:srgbClr val="acad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1872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 324 782 sp. 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1872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1 5888 638 sq. 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1872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opu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f1f1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86 642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f1f1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38 993 6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f1f1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D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f1f1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$12.82 trillion(U.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f1f1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$15.279 trillion(U.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f1f1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DP per Per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$29 400 (U.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$34 8-5 (U.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000000"/>
                </a:solidFill>
                <a:latin typeface="Trebuchet MS"/>
              </a:rPr>
              <a:t>How Do International Agreements And Organizations Contribute To Expanding Globalization?</a:t>
            </a:r>
            <a:endParaRPr b="0" i="1" lang="en-US" sz="3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&gt;A factor of expanding globalization is reducing trade barriers so that goods and services can move around the world easily. This is calle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rebuchet MS"/>
              </a:rPr>
              <a:t>Trade Liberalization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&gt;In order for liberalization to take place these things must be removed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ariff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Quota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Regulation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&gt;When two countries agree to eliminate all tariffs and taxes on goods and services traded between them, the result is calle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rebuchet MS"/>
              </a:rPr>
              <a:t>Free Trade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&gt;Creates jobs, uses resources, and reduces the cost of consumer goods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Name the widely known, and one of the earliest developed Free Trade agreements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*hint: movie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The World Trade Organization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WTO was established in 1995 to increase international trade by lowering trade barrier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cisions are made by coming to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rebuchet MS"/>
              </a:rPr>
              <a:t>Consensus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- a general agreement - which all the members support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WTO: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nsures that the terms of trade agreements are follow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ttles trade disputes between governmen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nducts trade negotiation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1143000" y="3611520"/>
            <a:ext cx="7238880" cy="3246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2"/>
          <a:stretch/>
        </p:blipFill>
        <p:spPr>
          <a:xfrm>
            <a:off x="2438280" y="0"/>
            <a:ext cx="464832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AT DO YOU THINK THE WTO USED TO ENFORCE DECISIONS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*hint: economic actio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Sanctions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TO has the power to enfor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rebuchet MS"/>
              </a:rPr>
              <a:t>Sanctions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- economic actions such as trade boycott - to enforce  decision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TO used this power to resolve disputes in trade between nations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Example of Dispute in the WTO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002 Canada asked the WTO to rule on a longstanding dispute with the US over softwood lumber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006 WTO finally ruled in Canada’s favor, removing American tariffs on Canadian lumber and required the U.S to repay almost 80% of the more than 5 billion it had collected in tariffs on lumber imports from Canad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9:20:03Z</dcterms:created>
  <dc:creator>Webber Academy Webber Academy</dc:creator>
  <dc:description/>
  <cp:keywords/>
  <dc:language>en-US</dc:language>
  <cp:lastModifiedBy>HP Authorized Customer</cp:lastModifiedBy>
  <cp:lastPrinted>1904-01-01T00:00:00Z</cp:lastPrinted>
  <dcterms:modified xsi:type="dcterms:W3CDTF">2007-09-20T03:49:45Z</dcterms:modified>
  <cp:revision>24</cp:revision>
  <dc:subject/>
  <dc:title>Globalization</dc:title>
</cp:coreProperties>
</file>